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ncepts:  Expressions are values, value depends on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lative positions of x, 2x, x/3 are always the same – location of x+1 varies depending on value of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at needs to be placed to determine the value of x? 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at does (x+1)/x show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oints on the graph represent the relationship between two “quantities”, whose magnitudes are linear measur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axes are number l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magnitude is distance from zer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units are different (variab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Requires fraction as operator (1/2 of 2 billion etc.) to extract meaning from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uggest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1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ncourage participants to ask for help if they have trouble figuring out where there fraction g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Question class about density of fractions, whole, partitioning, equivalent fractions, unit fraciton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ivide class into groups of  6 for next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1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3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eachers may notice math talk, questioning, partitioning, equivalence, defining the whole, justifying, strategies, conceptual understanding, teacher ques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4B903-850D-488B-ACAB-AC83370557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D1121-8B72-49B4-95AC-DDC13F871A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18BA9-90D3-44EE-894D-4BE282684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B16A5-7F2F-4D5E-83AB-A193FF09C0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5D195-7A3A-4D84-99D6-5986CE9EAD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413C0-47C9-437E-946C-D77D2852E3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AA5B3-9133-4857-8E1C-81379417D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03E5E-656A-42D3-B6F2-EB0D9C50A0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CF8DF-4BE6-43DA-A5FF-3319C9A710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A8D57-B61E-4B86-8827-823E3F5DBB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D668F-5598-443F-96E3-6730C3211A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FDA71-4A21-4E99-8F1C-2A5646BF3B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3E68-4BE7-42F6-AEE7-D229902F83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apminder.org/videos/religions-and-babie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2xby3%20v4.gsp" TargetMode="External"/><Relationship Id="rId2" Type="http://schemas.openxmlformats.org/officeDocument/2006/relationships/hyperlink" Target="file:///NumberLineFunctions%20V4.gsp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KNAER_Steve%20McLean%20PS_S02_Grade%206_Lesson%20Action_28March12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3192-2D8A-4091-B5AE-66CDBB2821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Variable Number Lin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 a number line using the string provided.  Tape it up somewhere in the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lace the following values on the number line in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    x,    2x,      ,    x+1,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0EEA-47A6-4414-A85E-49C78CA02D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"/>
              <p:cNvSpPr txBox="1"/>
              <p:nvPr/>
            </p:nvSpPr>
            <p:spPr>
              <a:xfrm>
                <a:off x="3657600" y="4114800"/>
                <a:ext cx="2667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3"/>
              <p:cNvSpPr txBox="1"/>
              <p:nvPr/>
            </p:nvSpPr>
            <p:spPr>
              <a:xfrm>
                <a:off x="5562720" y="4114800"/>
                <a:ext cx="7617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18624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Variable Number Lines (cont.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concepts /ideas does this bring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uld this activity be used with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tribute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6613-533B-4930-848B-D5DC2D2E3B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rig Conne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897A-B193-4AF5-96CC-9ED83A428B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Straight Arrow Connector 5"/>
          <p:cNvCxnSpPr/>
          <p:nvPr/>
        </p:nvCxnSpPr>
        <p:spPr>
          <a:xfrm>
            <a:off x="914400" y="3352320"/>
            <a:ext cx="739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92" name="Straight Connector 7"/>
          <p:cNvSpPr/>
          <p:nvPr/>
        </p:nvSpPr>
        <p:spPr>
          <a:xfrm>
            <a:off x="137160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9"/>
          <p:cNvSpPr/>
          <p:nvPr/>
        </p:nvSpPr>
        <p:spPr>
          <a:xfrm>
            <a:off x="800100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1212840" y="3514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7620120" y="3514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Cloud Callout 24"/>
          <p:cNvSpPr/>
          <p:nvPr/>
        </p:nvSpPr>
        <p:spPr>
          <a:xfrm>
            <a:off x="5791320" y="228600"/>
            <a:ext cx="3352680" cy="1447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Proportional Reasoning 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Unit Rat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5975-57F3-4D6D-82D5-B7CB42CD2A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Straight Arrow Connector 5"/>
          <p:cNvCxnSpPr/>
          <p:nvPr/>
        </p:nvCxnSpPr>
        <p:spPr>
          <a:xfrm>
            <a:off x="685800" y="2057040"/>
            <a:ext cx="739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0" name="Straight Connector 7"/>
          <p:cNvSpPr/>
          <p:nvPr/>
        </p:nvSpPr>
        <p:spPr>
          <a:xfrm>
            <a:off x="121932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9"/>
          <p:cNvSpPr/>
          <p:nvPr/>
        </p:nvSpPr>
        <p:spPr>
          <a:xfrm>
            <a:off x="617220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1060560" y="2219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9"/>
          <p:cNvSpPr/>
          <p:nvPr/>
        </p:nvSpPr>
        <p:spPr>
          <a:xfrm>
            <a:off x="374652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9"/>
          <p:cNvSpPr/>
          <p:nvPr/>
        </p:nvSpPr>
        <p:spPr>
          <a:xfrm>
            <a:off x="2438280" y="1914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9"/>
          <p:cNvSpPr/>
          <p:nvPr/>
        </p:nvSpPr>
        <p:spPr>
          <a:xfrm>
            <a:off x="499104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5943600" y="2219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Straight Arrow Connector 5"/>
          <p:cNvCxnSpPr/>
          <p:nvPr/>
        </p:nvCxnSpPr>
        <p:spPr>
          <a:xfrm>
            <a:off x="723960" y="3200040"/>
            <a:ext cx="739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8" name="Straight Connector 7"/>
          <p:cNvSpPr/>
          <p:nvPr/>
        </p:nvSpPr>
        <p:spPr>
          <a:xfrm>
            <a:off x="12574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9"/>
          <p:cNvSpPr/>
          <p:nvPr/>
        </p:nvSpPr>
        <p:spPr>
          <a:xfrm>
            <a:off x="621036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1098720" y="3362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7"/>
          <p:cNvSpPr/>
          <p:nvPr/>
        </p:nvSpPr>
        <p:spPr>
          <a:xfrm>
            <a:off x="3784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9"/>
          <p:cNvSpPr/>
          <p:nvPr/>
        </p:nvSpPr>
        <p:spPr>
          <a:xfrm>
            <a:off x="2476440" y="3057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9"/>
          <p:cNvSpPr/>
          <p:nvPr/>
        </p:nvSpPr>
        <p:spPr>
          <a:xfrm>
            <a:off x="7467480" y="3057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0"/>
          <p:cNvSpPr/>
          <p:nvPr/>
        </p:nvSpPr>
        <p:spPr>
          <a:xfrm>
            <a:off x="5981760" y="3362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4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9"/>
          <p:cNvSpPr/>
          <p:nvPr/>
        </p:nvSpPr>
        <p:spPr>
          <a:xfrm>
            <a:off x="505476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7289640" y="3362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3"/>
          <p:cNvSpPr/>
          <p:nvPr/>
        </p:nvSpPr>
        <p:spPr>
          <a:xfrm>
            <a:off x="6553080" y="609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/3 : 4/5 = ? 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traight Connector 9"/>
          <p:cNvSpPr/>
          <p:nvPr/>
        </p:nvSpPr>
        <p:spPr>
          <a:xfrm>
            <a:off x="744228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0"/>
          <p:cNvSpPr/>
          <p:nvPr/>
        </p:nvSpPr>
        <p:spPr>
          <a:xfrm>
            <a:off x="7251840" y="2219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Number Lines and Graph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atch this video:  </a:t>
            </a: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ap M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 the connection between variable number lines and graphical representation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F1A0-42F2-4678-AF5E-413CAA357F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roup Activit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ach person gets a number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ach person picks a differ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value for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 1/2,  1,  2,  3,  4,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Evaluat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he following expressions for YOUR value of x, and </a:t>
            </a: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carefull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plo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each one on your number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FD2B-EF67-4A69-9C39-555E50B5F9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2819520" y="4267080"/>
            <a:ext cx="591156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roup Activity (cont’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bine your number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make a graph of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llowing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B8CF-8993-4F72-B23F-BCCFC09718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6019920" y="762120"/>
            <a:ext cx="2895480" cy="48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eometer’s Sketchpad Demo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emo 1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emo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4DDB-6C0B-423B-B73F-3D4E3C8651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Instructions for Breakout 7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umber off (1-2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tarting Po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-8 : Classroom 4 (downstairs Bayvie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9-15: Classroom 2 (upstairs Bayvie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6-22 HERE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23-29:  Classroom A/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rrive at 2:45 and Find your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irculate through rooms, taking turns as the tour guide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4D9F-0E3F-46EB-8A91-64EB99038D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deas from today might you integrate into your work prac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re you still wondering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st stickies on chart paper on your way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A53F-E2A7-4191-8308-7D345425F3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the opportunity to explore and discu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ctions as linear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iculum connections to fraction mea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number lines support key fraction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ng number lines to algebra and graphical re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98B3-5BC1-4836-A443-5ED5CCEC9E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ession Agend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raction Meanings – Revis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urriculum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ariable Number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umber lines and Graphical Re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B027-E7EA-4BE7-BCC6-5D2D527899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lass Number Li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D874-EFB7-42BC-800C-916A14851E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15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two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of the following numbers to create a fraction  between 0 and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   3   4   5   6   7  8  10  12  15   20  30  40  50  100 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your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fraction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nd your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nam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on a sticky note, and place it on the number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atching Card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d a partner, and group cards by fraction mean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fter you are done, share at your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F49D-CE01-4D1A-A9D1-4890E9CC2F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Fractions in the Curriculu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0520" y="144792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up by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ook for curriculum connections to fraction meaning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pdate curriculum wall  with colour coded to fraction meanings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37B1-81C4-42E8-8C87-D33A6CF86E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5943600" y="1447920"/>
            <a:ext cx="2895480" cy="39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15000"/>
              </a:lnSpc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near m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t to Wh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u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scr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t to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o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"/>
          <p:cNvSpPr/>
          <p:nvPr/>
        </p:nvSpPr>
        <p:spPr>
          <a:xfrm>
            <a:off x="8305920" y="2144880"/>
            <a:ext cx="304560" cy="22860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8"/>
          <p:cNvSpPr/>
          <p:nvPr/>
        </p:nvSpPr>
        <p:spPr>
          <a:xfrm>
            <a:off x="8305920" y="2514600"/>
            <a:ext cx="30456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9"/>
          <p:cNvSpPr/>
          <p:nvPr/>
        </p:nvSpPr>
        <p:spPr>
          <a:xfrm>
            <a:off x="8305920" y="3400560"/>
            <a:ext cx="304560" cy="22860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0"/>
          <p:cNvSpPr/>
          <p:nvPr/>
        </p:nvSpPr>
        <p:spPr>
          <a:xfrm>
            <a:off x="8305920" y="4495680"/>
            <a:ext cx="304560" cy="22860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1"/>
          <p:cNvSpPr/>
          <p:nvPr/>
        </p:nvSpPr>
        <p:spPr>
          <a:xfrm>
            <a:off x="8305920" y="4838760"/>
            <a:ext cx="30456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 </a:t>
            </a: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Fractions on a Number Li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atch this grade 6 class in action, and listen for math reaso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actions on a Numb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kind of listening is going o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 their major misconcep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67E2-873E-4DC7-8648-DFB37B5D9A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Key Concepts:  Fractions on Number Li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nsity of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ole is defined by a sym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ractions have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rtitioning, unit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kip counting by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gnitude is linear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47ED-3FE1-4D99-B3C1-9CF221B958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uild a “number line” out of cubalinks.  Use colour to represent YOUR fraction (from the start of cl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32D6-82D1-428C-B689-34964749F9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2-07-26T13:35:20Z</dcterms:modified>
  <cp:revision>63</cp:revision>
  <dc:subject/>
  <dc:title>&lt;Title&gt;</dc:title>
</cp:coreProperties>
</file>